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1C6-A131-4857-90DD-12E2FCF9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FC48-B048-4388-BD60-13C2A5D6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29FB-D95A-4EFB-AD4B-1CB6BDA3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7A6-9BD1-42D2-A7AF-95BC0398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B028-1D68-487E-8DE6-E2D3EA56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D084-18C6-4166-8839-D20F6E29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41A1-5E01-42FE-B7B4-5324634B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4197-5451-4A64-9DE3-19848356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BC99-DE7A-4DD0-A614-79CF8428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A270-C4E9-47DE-8768-628FD1F4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5A71-894C-4ED0-9B7F-09461532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EF23-A596-4331-A78D-79CA89B3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7F66-7642-4A94-AEAF-0270B926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6A54-E22E-41BD-A567-6619CB65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1EBC-B788-449D-950C-473554EC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5818-B9E6-4E0D-9B72-08B26F02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3935-E5E1-4AF8-BE8B-C00FBB2B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F13-73DE-4893-8651-BEE0B872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78FE-BA1A-4B56-872E-58765D66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915-31C4-4162-A9FE-D2510A57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28A-FBF0-408D-AC50-AA50F259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1F0-56AD-47AB-8473-DFAEBB2D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38BA-9BE1-408F-B82C-DDD39ACD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B2E3-0029-4F7C-8D36-C546A22C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9A43-8F97-4D4B-B046-4C122CD9058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E624-CA1C-4A41-A9F1-6024D65C226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076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ir, We Would See Jesus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- Life of Christ -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43000" y="3733920"/>
            <a:ext cx="6858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Quarter 9, Lesson 3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Pages 9-15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Matt. 2:1-23; John 1:1-18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FC12-B87F-47FD-9DAE-7F9AB0ECF5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Names applied to this baby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esus (Luke 1:31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3360" indent="-60336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mmanuel (Matt. 1:23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3360" indent="-60336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rist (Rom. 8:12) (Luke 9:20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3360" indent="-60336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ssiah (John 4:25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3360" indent="-60336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avior (II Tim.1:10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3360" indent="-60336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ief Shepherd (I Pet. 5:4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3360" indent="-60336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eat High Priest (Heb. 4:14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3360" indent="-60336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n of David (Matt. 9:27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3360" indent="-60336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n of God (Rom. 1:4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106-4F00-48FE-AC30-6504798420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His Genealogy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tt. 1:1-17 – Joseph’s linea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uke 3:23-38 – Mary’s linea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82D-7F4E-4414-92DF-9CC2B76E4E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 Visit of the Wise Men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tt. 2:1-1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Verdana"/>
              </a:rPr>
              <a:t>Wise men from the east followed His star</a:t>
            </a:r>
            <a:endParaRPr b="0" lang="en-US" sz="2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Verdana"/>
              </a:rPr>
              <a:t>Arriving in Jerusalem, they inquired:  “Where is the one born king of the Jews?”</a:t>
            </a:r>
            <a:endParaRPr b="0" lang="en-US" sz="2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Verdana"/>
              </a:rPr>
              <a:t>King Herod – “Find where the child is so that I may worship him”</a:t>
            </a:r>
            <a:endParaRPr b="0" lang="en-US" sz="2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aeaea"/>
                </a:solidFill>
                <a:latin typeface="Verdana"/>
              </a:rPr>
              <a:t>They followed the star to a house in Bethlehem</a:t>
            </a:r>
            <a:endParaRPr b="0" lang="en-US" sz="29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Worshiped the child and gave Him gifts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Warned by God not to return to Herod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F1E-A51F-4058-A1C2-9BBB188F48BB}" type="slidenum">
              <a:t>2</a:t>
            </a:fld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light into Egypt 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tt. 2:13-18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seph took Mary and the child to Egyp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rod was tricked; became enrag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dered all young males up to two years old to be kill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member Jeremiah’s prophecy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(Jer. 31:15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hesy of Hosea 11:1 fulfilled:  “Out of Egypt have I called my son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EF7-72F2-4649-AB5D-10EB6B7B5C61}" type="slidenum">
              <a:t>3</a:t>
            </a:fld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Herod the Gre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dumeans in the Jewish relig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rod the Great - the second son of Antipater, governor of Idume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rod was made king of Judea by the Romans (37-4 B.C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ed of a terrible disease at the age of 69 after a 37 year reig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s son Archelaus reigned over Jude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DA3B-6828-4BC2-B493-76B30FFEA8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Herod the Gre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 of his accomplishment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uilt the great port city of Caesare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uilt aqueduct 13 miles long to get water to the c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built temple in Jerusalem (20 B.C.-A.D. 70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urdered his father-in-law, his wife, two sons, many others; tried to kill Jes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0F21-765E-487C-BE38-2329C8E438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198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5562720" y="1371600"/>
            <a:ext cx="3314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Kingdom of Herod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Grea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BE98-C58D-46BD-B83C-9BE07717972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 Return to Nazareth 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tt. 2:19-23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 angel of God commanded Joseph to return to Isra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returned to Nazare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esus was called a “Nazarene” -means a shoot or roo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f the house of David - see Isa. 11:1; Jer. 23: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661F-2087-4558-B348-6B890FDA57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7162920" cy="5433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2286000" y="0"/>
            <a:ext cx="4362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ollow The Rout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91440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ethlehe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Egyp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Nazaret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850-50D0-48C8-8EB6-FB40561171C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77560"/>
            <a:ext cx="853416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y worship this baby? Who is He?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ohn 1:1-18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gels announced His bir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hepherds came to see Hi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se men worshiped Hi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 was in the beginning. Always was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 was divine, dei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rough Him all things were creat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gal heir to David’s thron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 is God’s s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7B7-F9EC-46E8-BB67-352E691001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2:35:03Z</dcterms:created>
  <dc:creator> Tab Vines</dc:creator>
  <dc:description/>
  <dc:language>en-US</dc:language>
  <cp:lastModifiedBy>Frank D Vines</cp:lastModifiedBy>
  <dcterms:modified xsi:type="dcterms:W3CDTF">2006-07-16T13:19:18Z</dcterms:modified>
  <cp:revision>31</cp:revision>
  <dc:subject/>
  <dc:title>Sir, We Would See Jesus</dc:title>
</cp:coreProperties>
</file>